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EA7-B07A-4591-852B-8CE904A1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672-ED3F-4A94-98B8-5BB163E4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4CB-9322-4E90-8269-D1FC341A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99B-7F1B-4854-A4BC-DF9D7C1D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3206-2C75-4B63-B7C0-C48F7F86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8935-5B99-4E75-87E4-E49D537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845A-34F5-4424-9362-D9BF6352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154C-2408-4E6E-8DF1-F23572E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620A-66D8-44F0-825D-94E8A22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4F83-C6C6-419C-B069-EBEAE25D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4B0F-8737-488B-8AF7-01F46A2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D08-085E-47D6-8020-66C06EEA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F2E3-5957-4D53-9613-FC2A169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CC6C-713B-4907-B38D-62E6064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9BE8-FE4B-4247-9365-C3FE2A59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81F2-26AB-4029-A127-48EB6591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2F02-1299-4EE5-A4D2-92A023F9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BE5-5DC9-4CBD-B134-EADD778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87E-0FF6-4D70-926E-2A2C40F3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0E4-81B7-454A-A4D3-E0C478B0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393-CA41-4B55-A476-F5CFE095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47F-6120-4B2D-A9F1-98ED810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781-0736-479E-A858-DA29FD8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55E-36F3-41CE-9D23-3C240BF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4F77-6AEE-42D0-82B7-9E1258F4A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59F5-D13A-435C-A27F-7C0C0BF8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east-at-the-forum-09.wikispaces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pd360.com/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ube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teachertube.com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otlol.com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easing,_Gossip,_and_Harassment.wm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top_Bullying.wm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618" TargetMode="External"/><Relationship Id="rId2" Type="http://schemas.openxmlformats.org/officeDocument/2006/relationships/hyperlink" Target="http://www.pd360.com/index.cfm?ContentId=618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Guidance in the Streaming Video</a:t>
            </a:r>
            <a:br>
              <a:rPr sz="4100"/>
            </a:br>
            <a:r>
              <a:rPr b="0" i="1" lang="en-US" sz="24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http://feast-at-the-forum-09.wikispaces.com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esentation for Feast at the For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bruary 4,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aren Apple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airie Lakes A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86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903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rted wi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D 3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:  </a:t>
            </a:r>
            <a:r>
              <a:rPr b="0" lang="en-US" sz="1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http://www.pd360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Click on the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Register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button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477720"/>
            <a:ext cx="86108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Enter the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Registration Cod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number (0901AEA8) and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Continu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Enter your e-mail address twice and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Continu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Select your school from the drop menu, enter a new password, complete the demographic information, and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Continu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A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Welcome to PD 360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screen will appear. 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Log In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to continue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Read and initial the license agreement before clicking on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I Accept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to continue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Congratulations, you have successfully created your account for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PD 360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!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on the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 Help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on to access the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PD 360 Basic Users Guid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reaming Video Resource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Discovery Educ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 through the AEA On-line Media Cat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 action="ppaction://hlinksldjump"/>
              </a:rPr>
              <a:t>Learn 36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 through the AEA On-line Media Cat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 action="ppaction://hlinksldjump"/>
              </a:rPr>
              <a:t>PD36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pd360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ther Possibilities for Stream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4880" y="3438360"/>
            <a:ext cx="275256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68680" y="2127240"/>
            <a:ext cx="1914480" cy="80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1120" y="3560760"/>
            <a:ext cx="44416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You Can Solve It! Harass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does good natured teasing become harass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does gossip become harassmen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our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tion (M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sing, Gossip, and Harassment. Sunburst Visual Media. 200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Learn360. 02 February 20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tion (A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sing, Gossip, and Harassment. Sunburst Visual Med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2007 Retrieved February 02, 2009,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Learn360: http://www.learn360.com/ShowVideo.aspx?ID=1393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tion (Chicago Manual of Sty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burst Visual Media. "Teasing, Gossip, and Harassment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Learn360: http://www.learn360.com/ShowVideo.aspx?ID=1393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Stop Bully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have the pow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ll someone you can tru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our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Deal about Bullying &amp; What You Can Do about It. Linx Educational. 2005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Education. 2 February 200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streaming.discoveryeducation.com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ation (AP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Deal about Bullying &amp; What You Can Do about It. Linx Educatio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05). Retrieved February 2, 2009,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Education: http://streaming.discoveryeducation.com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ation (Chicago Manual of Sty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x Educational. "The Big Deal about Bullying &amp; What You Can Do about It.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Education: http://streaming.discoveryeducation.com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Concious</a:t>
            </a: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2"/>
              </a:rPr>
              <a:t> Classroom Manage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040" y="1904760"/>
            <a:ext cx="77598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at teachers control their classrooms by having their students passionately engaged in the learnin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segment looks at prevention, what we do proactively as teach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lding one’s ground requires advance planning and commitmen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say NO in a soft but firm wa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903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rted wi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D 3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you do not already have a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PD 36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ccount, then follow these steps to set up an account toda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ystem will tell you if you already have an accou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you have forgotten your password to an existing account, you can request the information by e-mail from the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Welcome to PD 36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505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581280"/>
            <a:ext cx="396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572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0:33:16Z</dcterms:created>
  <dc:creator>Karen Appleton</dc:creator>
  <dc:description/>
  <dc:language>en-US</dc:language>
  <cp:lastModifiedBy>Karen Appleton</cp:lastModifiedBy>
  <dcterms:modified xsi:type="dcterms:W3CDTF">2009-02-04T14:25:36Z</dcterms:modified>
  <cp:revision>8</cp:revision>
  <dc:subject/>
  <dc:title>Slide 1</dc:title>
</cp:coreProperties>
</file>